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6EF1-8EFB-4507-AE07-A95AB927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3445-23E5-4FCD-865E-9B195B62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42AF-904E-4087-A1EA-26477929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D84-42EF-478E-96F9-5BE4C388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DB5-C179-4AEF-BE01-FD1A0B90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FCC4-F8B2-4A9B-BE5B-2B2C961A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22B-57B4-4495-8FE2-B595BC42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7D56-34A4-4065-B930-D665C316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6B0D-C4B3-43DC-B7B9-2C0B2EC9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6CC-6431-44A1-9F6B-CB06470E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C46B-2A55-4F65-934F-F94F7778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BDAD-9482-4558-B74E-B03D0E67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39A2-F676-482F-8A38-56B63E632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web.mit.edu/invent/iow/pemberton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1371600"/>
            <a:ext cx="51051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ca cola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553080" y="533412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00800" y="5105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5029200"/>
            <a:ext cx="3200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mel Al-Shei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day, February 17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343400" y="3276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5562720"/>
            <a:ext cx="495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541008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5410080"/>
            <a:ext cx="5334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play music, Warped_30, February 27,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505560" y="235080"/>
            <a:ext cx="2070000" cy="1949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57120" y="95400"/>
            <a:ext cx="1451160" cy="1806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22017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2430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Pemberton"/>
          <p:cNvPicPr/>
          <p:nvPr/>
        </p:nvPicPr>
        <p:blipFill>
          <a:blip r:embed="rId1"/>
          <a:srcRect l="66236" t="0" r="0" b="0"/>
          <a:stretch/>
        </p:blipFill>
        <p:spPr>
          <a:xfrm>
            <a:off x="5715000" y="1981080"/>
            <a:ext cx="2895480" cy="264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Pemberton"/>
          <p:cNvPicPr/>
          <p:nvPr/>
        </p:nvPicPr>
        <p:blipFill>
          <a:blip r:embed="rId2"/>
          <a:srcRect l="0" t="0" r="38971" b="0"/>
          <a:stretch/>
        </p:blipFill>
        <p:spPr>
          <a:xfrm>
            <a:off x="457200" y="758880"/>
            <a:ext cx="4952880" cy="250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4648320"/>
            <a:ext cx="8686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ca Cola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y 23, 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pembert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38680" y="838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Pemberton invented Coca Cola originally as a medic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Coca C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ca Cola was first made with coca syrup, brass kettle, cocaine, cola nuts, a rich source of caffeine, and su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05 the cocaine and the nuts were removed and replaced with citric acid and a variety of fruit flav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billions of people drink Coca Cola everyday in nearly every nation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John Pembe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Pemberton earned his medical degree at age 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born 1831, in Knoxville, Georg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opened his own drug store in Columbus, Georg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civil war, he fought for the Sou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dicine he sold was called Pembrton’s French Wine Co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tlanta forbid the sale of alcohol in 1885, he only sold the coca syr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made the first coca cola in his backyard in 188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38:33Z</dcterms:created>
  <dc:creator>install</dc:creator>
  <dc:description/>
  <dc:language>en-US</dc:language>
  <cp:lastModifiedBy>install</cp:lastModifiedBy>
  <dcterms:modified xsi:type="dcterms:W3CDTF">2012-03-09T15:25:28Z</dcterms:modified>
  <cp:revision>7</cp:revision>
  <dc:subject/>
  <dc:title>Slide 1</dc:title>
</cp:coreProperties>
</file>